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5.gif" ContentType="image/gif"/>
  <Override PartName="/ppt/media/image6.gif" ContentType="image/gi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57C8-6F73-476B-9827-4AB7A307F8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9C86E-ADCA-4801-90F8-B90F81E2E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1279D-ACB5-4ADC-85FA-0B5896450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6B299A-503B-4FA2-93BA-5EDE432E4E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DC7D08-398A-4E6D-B940-45CB2A41B8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CE2AD4-5301-493F-8BC5-52C7624634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E719A7-68F4-4848-BA9E-6B5AE4F7FB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7CC03C-23B7-43E2-A040-D3F0C0AC88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A7F8D4-F6CB-4170-A8CB-CCA38F13AB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B81C54-E25A-4662-9692-7E214E762E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3B8F85-14A2-42EC-A743-B21EF4E0D8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B94D0F-5E48-41FD-9543-8BF5CE228A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F9DFC1-68D5-41A1-A47D-321D639986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48CD0-688E-42B1-93A1-66ED0E83C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1B7FE1-E64A-4F4B-A375-8781079EEE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8A93AD-05BE-4423-BB78-89D0FA3035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1D54E7-72D4-4F32-B3CF-31F5E67D14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477F95-B3F9-4A46-990A-F221932584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3003F3-6C31-4592-9770-23F32D5569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664F9B-C17A-4EAE-9C1A-849E5238FA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93AE88-BED2-4130-8ED8-9DF7F487BE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57764B-1B74-4295-BDCE-164EF573BE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5C842E-F0D4-4141-93C9-711CB759D6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FA6697-FDF2-4FB1-BD28-69DE76B0E6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05AFC-D273-4F4B-A00A-94BC30468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D6EE95-6651-487D-A0B8-924A2A99D50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D3A12A-9517-4E66-9ED7-67AD00CE5CF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BDB59E-BAF5-43B4-A109-A3DAD222BD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ABB71F-CDDE-480D-9F36-BDC7D65425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791617-D06C-4C00-8E4B-531D021775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2651D1-A688-41A3-95F7-3C65F89439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4A213F-51BF-4674-BCE1-0600C03119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279C33-9806-4253-8FE6-8B74762255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B7AB35-6E05-4450-8F3B-70C4BBFBD3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E50BC0-68B2-4863-8A89-D99659CAFB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68CF1-69F1-4EDF-8E1C-5561B9838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A4284A-535C-4BD1-A1A8-CDE5909EA1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6BE34B-6093-4A52-84A1-F5CDDAF712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9F546A-9685-4A37-B6E2-EDA8352370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AD107A4-814D-437D-B940-8574843748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85CF24-E214-47FC-9BA0-2CDD98327B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C621C1-F148-422F-8908-D7F33FBC50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4650B8-C68D-4BD4-BBF0-723172777CC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12BF79-8E56-4D15-B1AC-F8E7F5F5C4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685432-3645-4D2C-ADD1-3E4D61ACCE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E95E36-4E53-4AD2-A2FF-1302AAFA11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ADEA0-ABC7-4708-A97E-9113FBC3E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573683-EEEA-47CA-AE0C-B6F3E8F9E3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3B32F7-F5E3-4AB4-8A94-98385B0329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FBFD30-3508-43BC-86C2-DA6097C022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F02DC6-0E4E-4DF9-9B11-9BDF0B8E49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5F9A957-8470-41A9-9DE5-69A35AFE6A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30A34-ACA6-42DF-B2FD-B35F69A90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CB64E-88A7-4603-A19C-EFAF56A73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8A3A1-76A9-4CBB-8053-C7B1AF328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F9AAF-F954-4C66-BFAF-A3E88D414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F14EF-7961-405C-AFE5-46C4DA64D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A2F17-55CB-48DB-84B4-EF802A4AA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4EC2B-A140-4765-9209-D1B11246A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5060F-9EA4-4180-AB67-6CA8D836C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25771-BE63-4689-A2B9-4B26B1C2D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E9720-D6BA-4678-8CA7-85A3F53A9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6C986-C7D8-4CC3-8EF4-A4A493704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473905-BB72-4B74-BD5A-3C248207F1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4A89A-401C-4EA3-9C63-46B7432234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7D764-D13C-46BD-9EA1-FD560B05B7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2B2DFA-DDD9-4332-837D-FA12AB12A3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995B9-BD36-4BF1-970B-9BEA2BFDC4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12CEB-1496-4BC0-8951-81E404E7B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1F1354-9EEF-4691-A97A-E132B6945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E9AFF-967E-4E98-B49C-D957B3AA2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D2148-A934-4093-A49A-C4594DB36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958D0-DA71-4A72-A879-8ECE68CC0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B56333-1E1A-440C-87B6-37E9B5FD7A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FBEA8E-996B-4FC6-A482-2487CE0930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F40A72-F96B-4780-9ADD-B60965D027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6C969A-1954-427F-8675-D012571ABA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A7EFD2-2034-4B44-8CEC-A0EEB8E313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AE5CA6-84B6-4483-8B13-23BAEDDFC0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530FB-3918-4691-8669-044E1A30A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2AF11E-26E5-4108-89DA-2E713765F0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3B7B9-E45D-45B4-90FD-037A2D8678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769FD2-ADDF-45AC-8CE1-4268F19472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7AF7C-ADF5-470C-82D2-0D8E6AC43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4161D-FE0D-440B-8826-A167456C4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69939E-2B0C-4BCD-A5FD-FF6D3FC4E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96055-62A9-4A73-830B-4E8D4EB72E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E823D9-8697-4BAC-9AE7-647745C7E4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13FA7E-D5DC-4CF7-823E-43C779D67C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72BF88-7569-4654-95AA-44FEFA514D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70EB7-4098-4F16-AB13-52A4E1944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4BA606-72F4-4CF8-9FD6-60E9E577F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5C83AF-5061-475E-A95A-E27F318A7F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C4C544-9051-4BEC-8864-636F868A11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5FB9C2-65EA-424D-BAEE-EA574F42D1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507EB2-D795-4760-A813-794AFC6728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2F819-7BB9-4B1D-92C8-74666F4420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BF925-83D9-47DB-BC63-10CB73893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07A18-3EBC-4351-9221-6556B7FE7E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715FC6-F79E-4E8E-9EAA-460730BD48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712FBB-709A-4B3A-8611-9BFDE3D5BB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C88FD-16A5-48C5-B57A-DBAAED444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8E3598-12B6-426E-A75F-600E5CA569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6AA8D7-D37B-4660-89F8-0B620E833B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45E50C-71F0-421D-BD1D-98692B8C21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E18D1F-B73A-4B81-80EE-4412CDBE08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78FE88-BDBF-455E-9EB9-FA24CFBBC8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33556C-67F4-4C8B-BCDD-36CFEE5658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E616E5-4AF9-42C5-8A0A-0719B6A839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6D711-1D83-4CE8-A852-859759A65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1DBE32-4FA4-422F-9259-AEBDBE34A6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18CF78-A41C-41B2-82D8-847218AC7A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0D05-D2A0-4208-AEE5-EBE5C79BB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0A2F82-4611-4E0B-910B-461642DD8F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A0E0B1-2437-42D4-B869-487872D0FB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1F85B6-8603-471E-BA5C-5407AFFA42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36EC79-0086-4935-9D38-2A81AC3C9D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7F401B-D632-4171-B2D5-391A9E2610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2F4A96-557F-4D12-A187-4E20979C36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E018F0-60B2-4C3F-8DED-60F60AF320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19DF54-8397-44C1-A866-740828C093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70D030-90E0-4A5E-90CA-6DBF4007B9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A45BA3-C76C-43EC-8FF2-D8E8CF8F0E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6D6F3-6666-4CA8-8C58-E8960AF15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2AC89D-C844-4417-A178-65622954C7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A18EA5-885A-48B8-A100-ABB6BC5A7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B3C2DC-395E-44E1-9FB1-E41AB5CA48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BFC921-A31B-4064-9869-8D9373B8C2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D8C6CE-5F98-4E21-8E8D-9C4A4DCB6A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19FCB2-9FEB-41C4-A2CB-DEBA996755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93FC20-4465-4AC9-94F1-F27AFA8C3D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A10514-C6FF-4A82-9319-BA005A44DF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FF3853-DF48-463B-A562-32325755DC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76DDD3-C731-4131-ABB9-D0ACEC7BDC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D96DA-2E7A-4A39-84C3-DE2093D1E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312F52-0E09-428B-B32C-A8B15DC21F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243174-0C7A-434E-A8CE-B2FA9EF211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694A78-3FEC-4EBD-8C1F-E088E5315F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9A1637-2A0B-457B-A07F-EF965B9A8E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53F430-57D1-4565-8351-1340F6F0DA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CE2694-AD78-4826-9FF1-5254190ED8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4D99AD-D6ED-440D-A349-95E93EE2C2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1C2E89-3180-45EA-AAB1-98664D5A87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CC090C-3A0E-4372-9276-5259F44079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4C8636-0676-495A-8F05-AC461C5F0DA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CB91-4547-4963-A922-4014752BC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640E-9672-4B69-8A56-0E306ADB1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0D61-8DEC-49E5-9FD7-638570F00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1F73-BF94-46D3-A9B6-542559638A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3CF2-8F75-4C67-A43F-4C923CBC80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E576-4A21-45CC-A313-1AE4431F9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47FE-9A51-46EE-B04F-6236A067C3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6833-122F-4E65-A31A-473BE3D0C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1890-86FB-486E-A071-BCF074703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72B9-1CCE-4ED2-8270-FF17D7C6D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C9DC-DB5C-478F-BE8C-92211C4630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614B-491D-4AF8-98F3-6E303F1C7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chevroncars.com/learn/img-old/i0450-1.gif&amp;imgrefurl=http://www.chevroncars.com/learn/category/holidays-seasons/page/2/&amp;h=160&amp;w=190&amp;sz=23&amp;hl=en&amp;start=484&amp;um=1&amp;tbnid=N1AKmaskgq0VQM:&amp;tbnh=87&amp;tbnw=103&amp;prev=/images%3Fq%3Dkwanzaa%26start%3D480%26gbv%3D2%26ndsp%3D20%26svnum%3D10%26um%3D1%26hl%3Den%26safe%3Dactive%26sa%3DN"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path path="rect">
            <a:fillToRect l="50000" t="50000" r="50000" b="50000"/>
          </a:path>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Papyrus"/>
              </a:rPr>
              <a:t>Kwanzaa</a:t>
            </a:r>
            <a:endParaRPr b="0" lang="en-US" sz="8800" spc="-1" strike="noStrike">
              <a:solidFill>
                <a:srgbClr val="000000"/>
              </a:solidFill>
              <a:latin typeface="Times New Roman"/>
            </a:endParaRPr>
          </a:p>
        </p:txBody>
      </p:sp>
      <p:sp>
        <p:nvSpPr>
          <p:cNvPr id="500"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Mr. Clutter</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Librarian</a:t>
            </a:r>
            <a:endParaRPr b="0" lang="en-US" sz="2400" spc="-1" strike="noStrike">
              <a:solidFill>
                <a:srgbClr val="000000"/>
              </a:solidFill>
              <a:latin typeface="Times New Roman"/>
            </a:endParaRPr>
          </a:p>
        </p:txBody>
      </p:sp>
      <p:pic>
        <p:nvPicPr>
          <p:cNvPr id="501" name="Picture 8" descr="i0450-1">
            <a:hlinkClick r:id="rId1"/>
          </p:cNvPr>
          <p:cNvPicPr/>
          <p:nvPr/>
        </p:nvPicPr>
        <p:blipFill>
          <a:blip r:embed="rId2"/>
          <a:stretch/>
        </p:blipFill>
        <p:spPr>
          <a:xfrm>
            <a:off x="3352680" y="387360"/>
            <a:ext cx="2514600" cy="2124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What is Kwanzaa?</a:t>
            </a:r>
            <a:endParaRPr b="0" lang="en-US" sz="4400" spc="-1" strike="noStrike">
              <a:solidFill>
                <a:srgbClr val="000000"/>
              </a:solidFill>
              <a:latin typeface="Times New Roman"/>
            </a:endParaRPr>
          </a:p>
        </p:txBody>
      </p:sp>
      <p:sp>
        <p:nvSpPr>
          <p:cNvPr id="503" name="PlaceHolder 2"/>
          <p:cNvSpPr>
            <a:spLocks noGrp="1"/>
          </p:cNvSpPr>
          <p:nvPr>
            <p:ph type="subTitle"/>
          </p:nvPr>
        </p:nvSpPr>
        <p:spPr>
          <a:xfrm>
            <a:off x="762120" y="1980720"/>
            <a:ext cx="761976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2400" spc="-1" strike="noStrike">
              <a:solidFill>
                <a:srgbClr val="000000"/>
              </a:solidFill>
              <a:latin typeface="Times New Roman"/>
            </a:endParaRPr>
          </a:p>
        </p:txBody>
      </p:sp>
      <p:pic>
        <p:nvPicPr>
          <p:cNvPr id="504" name="Picture 4" descr="kwanzaad3"/>
          <p:cNvPicPr/>
          <p:nvPr/>
        </p:nvPicPr>
        <p:blipFill>
          <a:blip r:embed="rId1"/>
          <a:stretch/>
        </p:blipFill>
        <p:spPr>
          <a:xfrm>
            <a:off x="3809880" y="5257800"/>
            <a:ext cx="914400" cy="1120680"/>
          </a:xfrm>
          <a:prstGeom prst="rect">
            <a:avLst/>
          </a:prstGeom>
          <a:ln w="0">
            <a:noFill/>
          </a:ln>
        </p:spPr>
      </p:pic>
      <p:pic>
        <p:nvPicPr>
          <p:cNvPr id="505" name="Picture 5" descr="kwanzaad2"/>
          <p:cNvPicPr/>
          <p:nvPr/>
        </p:nvPicPr>
        <p:blipFill>
          <a:blip r:embed="rId2"/>
          <a:stretch/>
        </p:blipFill>
        <p:spPr>
          <a:xfrm>
            <a:off x="2438280" y="5257800"/>
            <a:ext cx="914400" cy="1120680"/>
          </a:xfrm>
          <a:prstGeom prst="rect">
            <a:avLst/>
          </a:prstGeom>
          <a:ln w="0">
            <a:noFill/>
          </a:ln>
        </p:spPr>
      </p:pic>
      <p:pic>
        <p:nvPicPr>
          <p:cNvPr id="506" name="Picture 6" descr="kwanzaad1"/>
          <p:cNvPicPr/>
          <p:nvPr/>
        </p:nvPicPr>
        <p:blipFill>
          <a:blip r:embed="rId3"/>
          <a:stretch/>
        </p:blipFill>
        <p:spPr>
          <a:xfrm>
            <a:off x="5181480" y="5334120"/>
            <a:ext cx="914400" cy="1120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0000"/>
            </a:gs>
          </a:gsLst>
          <a:lin ang="27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ates</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Kwanzaa is based on the nguzo saba (seven guiding principles) one for each day of the observance and is celebrated from December 26</a:t>
            </a:r>
            <a:r>
              <a:rPr b="0" lang="en-US" sz="3200" spc="-1" strike="noStrike" baseline="30000">
                <a:solidFill>
                  <a:srgbClr val="ffffff"/>
                </a:solidFill>
                <a:latin typeface="Papyrus"/>
              </a:rPr>
              <a:t>th</a:t>
            </a:r>
            <a:r>
              <a:rPr b="0" lang="en-US" sz="3200" spc="-1" strike="noStrike">
                <a:solidFill>
                  <a:srgbClr val="ffffff"/>
                </a:solidFill>
                <a:latin typeface="Papyrus"/>
              </a:rPr>
              <a:t> to January 1</a:t>
            </a:r>
            <a:r>
              <a:rPr b="0" lang="en-US" sz="3200" spc="-1" strike="noStrike" baseline="30000">
                <a:solidFill>
                  <a:srgbClr val="ffffff"/>
                </a:solidFill>
                <a:latin typeface="Papyrus"/>
              </a:rPr>
              <a:t>s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9" name="Picture 4" descr="kwanzaa1"/>
          <p:cNvPicPr/>
          <p:nvPr/>
        </p:nvPicPr>
        <p:blipFill>
          <a:blip r:embed="rId1"/>
          <a:stretch/>
        </p:blipFill>
        <p:spPr>
          <a:xfrm>
            <a:off x="3200400" y="4114800"/>
            <a:ext cx="3228840" cy="23684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2"/>
            </a:gs>
            <a:gs pos="100000">
              <a:srgbClr val="ff000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Gifts</a:t>
            </a:r>
            <a:br>
              <a:rPr sz="4400"/>
            </a:b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 </a:t>
            </a:r>
            <a:r>
              <a:rPr b="0" lang="en-US" sz="2800" spc="-1" strike="noStrike">
                <a:solidFill>
                  <a:srgbClr val="ffffff"/>
                </a:solidFill>
                <a:latin typeface="Papyrus"/>
              </a:rPr>
              <a:t>Kuumba(creativity)is greatly encouraged. Gifts are usually exchanged between parents and children and traditionally given on January 1</a:t>
            </a:r>
            <a:r>
              <a:rPr b="0" lang="en-US" sz="2800" spc="-1" strike="noStrike" baseline="30000">
                <a:solidFill>
                  <a:srgbClr val="ffffff"/>
                </a:solidFill>
                <a:latin typeface="Papyrus"/>
              </a:rPr>
              <a:t>st</a:t>
            </a:r>
            <a:r>
              <a:rPr b="0" lang="en-US" sz="2800" spc="-1" strike="noStrike">
                <a:solidFill>
                  <a:srgbClr val="ffffff"/>
                </a:solidFill>
                <a:latin typeface="Papyrus"/>
              </a:rPr>
              <a:t> the last day of Kwanzaa. However gift giving during Kwanzaa may occur at any time.</a:t>
            </a:r>
            <a:endParaRPr b="0" lang="en-US" sz="2800" spc="-1" strike="noStrike">
              <a:solidFill>
                <a:srgbClr val="000000"/>
              </a:solidFill>
              <a:latin typeface="Times New Roman"/>
            </a:endParaRPr>
          </a:p>
        </p:txBody>
      </p:sp>
      <p:pic>
        <p:nvPicPr>
          <p:cNvPr id="512" name="Picture 4" descr="lionlight1"/>
          <p:cNvPicPr/>
          <p:nvPr/>
        </p:nvPicPr>
        <p:blipFill>
          <a:blip r:embed="rId1"/>
          <a:stretch/>
        </p:blipFill>
        <p:spPr>
          <a:xfrm>
            <a:off x="685800" y="3809880"/>
            <a:ext cx="1752480" cy="1420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ecorating the home</a:t>
            </a: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80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The Kwanzaa feast or karamu</a:t>
            </a:r>
            <a:br>
              <a:rPr sz="4400"/>
            </a:b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Kwanzaa karumu is traditionally held on December 31</a:t>
            </a:r>
            <a:r>
              <a:rPr b="0" lang="en-US" sz="3200" spc="-1" strike="noStrike" baseline="30000">
                <a:solidFill>
                  <a:srgbClr val="ffffff"/>
                </a:solidFill>
                <a:latin typeface="Papyrus"/>
              </a:rPr>
              <a:t>st</a:t>
            </a:r>
            <a:r>
              <a:rPr b="0" lang="en-US" sz="3200" spc="-1" strike="noStrike">
                <a:solidFill>
                  <a:srgbClr val="ffffff"/>
                </a:solidFill>
                <a:latin typeface="Papyrus"/>
              </a:rPr>
              <a:t>. This is a very special event.  It is the one Kwanzaa event that brings the African American people closer to our African roots.</a:t>
            </a:r>
            <a:endParaRPr b="0" lang="en-US" sz="3200" spc="-1" strike="noStrike">
              <a:solidFill>
                <a:srgbClr val="000000"/>
              </a:solidFill>
              <a:latin typeface="Times New Roman"/>
            </a:endParaRPr>
          </a:p>
        </p:txBody>
      </p:sp>
      <p:pic>
        <p:nvPicPr>
          <p:cNvPr id="517" name="Picture 8" descr="kwanzaa"/>
          <p:cNvPicPr/>
          <p:nvPr/>
        </p:nvPicPr>
        <p:blipFill>
          <a:blip r:embed="rId1"/>
          <a:stretch/>
        </p:blipFill>
        <p:spPr>
          <a:xfrm>
            <a:off x="3733920" y="4495680"/>
            <a:ext cx="1882800" cy="1914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10002"/>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7 principles</a:t>
            </a:r>
            <a:endParaRPr b="0" lang="en-US" sz="4400" spc="-1" strike="noStrike">
              <a:solidFill>
                <a:srgbClr val="000000"/>
              </a:solidFill>
              <a:latin typeface="Times New Roman"/>
            </a:endParaRPr>
          </a:p>
        </p:txBody>
      </p:sp>
      <p:sp>
        <p:nvSpPr>
          <p:cNvPr id="519" name="PlaceHolder 2"/>
          <p:cNvSpPr>
            <a:spLocks noGrp="1"/>
          </p:cNvSpPr>
          <p:nvPr>
            <p:ph/>
          </p:nvPr>
        </p:nvSpPr>
        <p:spPr>
          <a:xfrm>
            <a:off x="457200" y="2209320"/>
            <a:ext cx="7315200" cy="3962520"/>
          </a:xfrm>
          <a:prstGeom prst="rect">
            <a:avLst/>
          </a:prstGeom>
          <a:noFill/>
          <a:ln w="0">
            <a:noFill/>
          </a:ln>
        </p:spPr>
        <p:txBody>
          <a:bodyPr anchor="t">
            <a:normAutofit/>
          </a:bodyPr>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moja (oo-MOH-jah): Unity – Success starts with Unity.  Unity of family, community, nation and race.</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jichagulia (koo-jee-chah-goo-LEE-ah):  Self-determination – To be responsible for ourselves.  To create your own destin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ima (00-JEE-mah): Collective work and responsibility – To build and maintain your community together.  To work together  to help one another within your communit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amaa (oo-jah-MAH): Collective economics – to build, maintain, and support our own stores, establishments, and businesse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Nia (NEE-ah): Purpose – To restore African American people to their traditional greatness. To be responsible to our ancestors and to our descendant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umba (koo-OOM-bah): Creativity – Using creativity and imagination to make your communities better than what you inherited.</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Imani (ee-MAH-nee): Faith – Believing in our people, our families, our educators, our leaders, and the righteousness of the African American struggle.</a:t>
            </a:r>
            <a:endParaRPr b="0" lang="en-US" sz="1600" spc="-1" strike="noStrike">
              <a:solidFill>
                <a:srgbClr val="000000"/>
              </a:solidFill>
              <a:latin typeface="Times New Roman"/>
            </a:endParaRPr>
          </a:p>
        </p:txBody>
      </p:sp>
      <p:pic>
        <p:nvPicPr>
          <p:cNvPr id="520" name="Picture 7" descr="kwanzaa_family"/>
          <p:cNvPicPr/>
          <p:nvPr/>
        </p:nvPicPr>
        <p:blipFill>
          <a:blip r:embed="rId1"/>
          <a:stretch/>
        </p:blipFill>
        <p:spPr>
          <a:xfrm>
            <a:off x="5943600" y="380880"/>
            <a:ext cx="1657440" cy="16765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4:52:39Z</dcterms:created>
  <dc:creator>Mr. Clutter</dc:creator>
  <dc:description/>
  <cp:keywords>Kwanzaa celebration</cp:keywords>
  <dc:language>en-US</dc:language>
  <cp:lastModifiedBy>RomaK</cp:lastModifiedBy>
  <dcterms:modified xsi:type="dcterms:W3CDTF">2015-09-02T09:53:19Z</dcterms:modified>
  <cp:revision>16</cp:revision>
  <dc:subject>Kwanzaa celebration</dc:subject>
  <dc:title>Kwanzaa celebration</dc:title>
</cp:coreProperties>
</file>